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3EC-39BD-4046-928D-A8DABA9B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A79-94A0-41E2-ACDE-7E9DA82C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0CB4C-7729-4725-8DF8-9BF61CD1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68ABA-02DD-4A3A-847A-44EFB66F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7607F-123B-4674-9FA8-A3675430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02F8E-2232-4CE8-A1B5-41F3EBE9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0620F-AF0D-4B23-AC5A-38AC1D3A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D82DF-B896-430E-A015-B71AFF94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55113-5FE9-4341-9936-DAD218CC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AC834-9AE2-4E2D-9EBB-73194C43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9AD12-FFF0-4313-BE62-18412E0B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022FB-699E-458E-8729-4E4CC377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449-A0DF-486D-AF65-19858797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8EE17-9793-499E-8D06-95C8CFD1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21D29-978D-4B7B-9B7D-1DE1AC49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808DF-6C29-493C-94EA-B085FD6B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62FCB-4935-4D11-B5C1-44F59267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94899-64E8-46D6-AC46-5DABABC8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03128-3AD1-4255-BCBC-B99FF4C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89D17-61C7-4FF0-BE7C-75A786B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D8C13-20FA-4239-87B1-3B3DD522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7EB56-5D5B-4826-9335-1C94342A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A0629-05F6-4F8A-86A1-EE170B19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2D3-CF8F-420C-A627-782192EA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6F418-75FC-4B63-BA2E-407E954F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47C60-AAD2-4139-8014-5FC9908E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EAD34-FE9A-4610-8C9C-0DAD64C7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67779-FD56-4F15-8ACE-21FFB395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93AA7-A239-4B23-A119-57481FA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7C08C-F074-49F3-80B8-9C748FCC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AA7B9-C58A-47A8-A9A0-7AF06644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4D0F0-B0C3-4FF1-B1E0-8A2F8F4F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D5EE4-6E43-43DD-B69E-73C574D2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039B0-BFAF-4B59-B2A6-C6450B2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78EB-1C73-4376-B4C5-5C2481AD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CF354-CFE5-4752-A88E-FCB8254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74C09-926F-4EFA-B1CA-E1B8C503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E7B72-9E72-4ACC-A590-C20EDAB5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63FB1-FA44-4D45-8501-FD54C1CB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C69E4-3BB9-4670-A1E5-FF376599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8515E-3062-412D-BF75-58B3A25D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491A4-6492-4EE0-B98F-DF63085E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E5642-43C3-4965-BD1C-BB08677F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9F165-42F9-47BA-85B1-36817F6C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859B6B-944D-451E-A99C-1A6FD40A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6255-642E-479E-80AD-8DF8F748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C6AFC-024D-4AF7-B060-CBD2F33F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F3DDB-DA9E-4685-B73F-854461DD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4F21A-984B-49AA-B5EF-C33D2566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C7885-9734-4948-92F8-3984F002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B53CA-F795-4953-85A3-8669D52E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7A4303-0594-4FD0-A375-92992C69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C9B27-AC1E-4BB7-8E02-D38EA33A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8D23A-E217-46A6-B666-DC610C49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D6B74-82D2-49C9-8CA3-4E352947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01638B-1F5F-4C5F-A35B-7985D863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16D8-0620-4866-953B-06B2E9EC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F44D9-4BDF-4701-9B7D-AB4ECD59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316E7-5FD2-4C2F-8630-6D5D984B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3322D-08CD-45CE-BE8E-356CA43D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7C8A2-BEB7-4C3F-AE2E-F48729F3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4953A-A7CD-4177-84BE-CE2F0AF6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41C66-2BF6-485D-96C0-77E92677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27DF8-712F-4D2C-B364-9EA5E887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26C4A-B281-43E6-89E7-0A414415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46838-F925-4E25-A7B3-5E31E261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258C0-960C-4A66-8334-9B58D461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A24E-C5B8-40EE-A420-04FF26AA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227E8F-C4B4-4F6B-B383-C6CDB917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A97B1-16BA-45D1-AAEA-5D7D0179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511D1-91DE-48B6-AFBF-3E0E2011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7D9F3-AF69-45CB-A264-8EA1845A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8136B-7C3D-4457-8CDF-287C08F9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8A392-061C-48E6-8C97-D45D8797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1D00E-BD4D-41F7-A1E9-9CB96DF2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E57BD-28AE-407B-B06B-C26260B9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8B343-1F40-4196-8A25-7AAFACA8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076B6-B7C4-40AF-81B3-8AD93966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D8FB-4B73-452A-B38E-8BA64592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193018-E7EC-4BC3-A137-719B5465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713EB-AE14-4CD0-8E22-F54D48A4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D41615-CD12-4F9E-81DF-0072DB4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1EBA8-B962-487B-A364-4DB2C6BA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2CE98-A27B-472E-ABB2-9373158C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1741B5-F533-4D73-80AA-3A8FA993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2C88E-BF5E-42EC-87B6-E2860978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72170-EFC8-4015-BC0C-2F93FE5D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A33A9C-EAB9-4C05-9A95-3B703172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36B62-0E73-49D0-B4F0-4C23FFF1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F445-738F-4477-89DD-239D367E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115351-5409-4BDF-B9E8-E753D76C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DA208C-8D86-400D-AE8F-2A023044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7C36D-3389-445A-A59B-F5B6A15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E28BD8-D6A7-4742-B73A-5131F28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80B12A-0653-42F7-9C6E-19A6FB2D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C28EB-516B-4865-AC67-04E458B5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8E026-D3DB-4A02-BB6D-50086478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4360F-9146-428D-B8FB-F185EA3E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D034C-54D8-4F97-B0C1-A6A55DB8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D01CA-E354-4F70-80F0-C05BAF78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560E-1115-43BA-AC6F-B335DD53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9C4F5-7DB0-4AAD-8701-93249164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8A2B0D-63AF-4316-9420-E17EAF21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0A4D2C-899C-4FFA-B436-3F9EFC51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6F7520-55F3-4746-8C8E-26D69FC6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5E9050-956B-4598-9038-CE79E2D2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9A1CBA-A5C2-48FA-8A28-077BB21E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E8FD65-A559-48D4-AAC7-74C84199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82C92F-B05F-46BE-A880-65323208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E11FA-4C8A-4165-9D9C-472A1798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71137C-066F-4989-B727-7582587F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E50-A249-4C69-A139-2B28EE61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B945-CAEB-406B-A7AE-73018E59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C6A60-B6D0-41FC-A1A0-1A630CAD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DF2B0-0B99-4B03-9EAC-31F03EE6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375CD-ACD0-4287-AB4D-1D29527E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1A22C4-E587-4DB7-806C-3F1607D5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BA8FBA-BDE0-4C0F-A1CC-90A849F0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9C53-674E-4DAC-BA12-EE54025C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A3AE-2B02-4917-9448-6A28902A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FE30-7D3E-43B8-A05D-30F0B09B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80E9-750C-4C3B-87DF-34EECF74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2736-079D-4A96-9EA5-A2E9B103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183B-FC9F-4F46-B0AA-92B646C7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7F2BB-32B2-470C-94DD-C188BBF7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D940-7A42-4F0F-9557-BB32D46D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EF9AC-777A-4436-A245-53A9AA1D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7BE-A9E6-41A1-A056-C00AD0EC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1029D-2609-4DA9-B362-7C288DA0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02608-D818-46EB-BA1D-FC5F651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7C20-5E35-43A3-A833-005E5622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95B05-CD6B-433B-AB14-7AE5D800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032B-E689-43FB-AFE2-67B94F81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A976E-F3EC-437F-89C3-82F94384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E1A5C-60BC-4361-A079-1A82C8A3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245E-F2EA-4CEC-9E67-B84719B6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4FCC-FAF6-4813-8CE5-D8FD5E38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4BED-0F72-4FA3-8FAA-8C86B45F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354-2555-4C78-81FA-A3D298CD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9AC66-E8FE-4B7A-BC02-D0524079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DC9CD-BB4F-4E4B-BE7D-107E76AE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AE731-C937-4FDA-B70A-2FD98B92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72935-B650-4FF3-90EE-A55A39E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BA1B2-04DA-4947-8CDB-8838B7D7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95BC-0646-4653-9C2D-B44787EB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FB1C5-689B-454F-A5CB-0988889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962E-FB1D-40EF-A277-38AACB4D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48B15-FB8E-40C9-B9B3-6D49A91C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A6DBB-C08E-4BEA-B729-C01B17AE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5E8-3CCD-40A4-8BB2-D1D6A34F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496A0-3CF1-4640-86D3-A91AACE1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678E6-4D4F-4778-8100-2085D9A6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EB2B-689A-46BA-A15E-D336678C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4CD5B-5A79-4DC3-A6EC-60BDECBC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AE14C-4C5C-474F-9DF1-2CAB87B8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1A551-C354-4A84-8A64-5EB1DCF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919F-EFCC-4F67-A6B2-9025F417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ECC69-B490-4B28-852F-2BAA66E9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B4CFF-73BA-4B46-9898-5F1E7F1D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2DD67-69FD-4571-B8A2-93D51A46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406E-1528-458D-83D3-890EA7CB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BEB9E-1DFD-4479-ABF8-031B8F8B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9F40B-6796-4CB0-8902-54E67813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35A90-5977-4B80-8B45-F10DC9A5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4B27A-9375-4934-A2A4-1ADA392B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7C4A-02AB-4D56-980F-E9F70847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1800D-70A5-4A72-B532-2EC83C71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55149-D311-4E41-B55E-698C0D7E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5F1CF-9F30-495B-9262-A1BFFE6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4D62E-2A35-428D-864B-29ECEB8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A524E-94F0-4FA1-8472-05B16E94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10D-625A-466D-891E-2B6C531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B128D-D560-4301-A1D2-D79CA72B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1B7D-4C6D-4D4F-AD55-AD59B2EB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51D5D-2C3C-4B62-8C36-A48354BE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3D2F7-C5E3-4E4A-924F-C9E79DFF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8787F-5BE9-4E72-97A4-EBF66BC3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A7F6D-F80B-46B6-B592-21161FE1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F8598-1272-4CF1-BE28-880677B0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6CA90-3C68-4AC1-82AF-63A016B4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D1ECF-3F7A-4F8A-9A8D-F4ACD6BB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80A72-AE58-4553-AE4B-23124C5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395-ABFB-4623-A637-72E5E3B8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97424-D503-4CB5-BE2B-AD90E801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F8A3F-39E9-4A6C-B89B-46A6F584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3BBB4-3ECF-4055-964B-48ECA1C9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5874E-78DF-49FD-A2B8-46C576BF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21EDF-0CE1-4BB9-A72E-717004A8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EDCEC-A085-4279-A620-F67CE61B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6AE53-307C-4138-BBDA-BE739F83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9E270-C910-4507-BC6C-129C4944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A0F5C-94FF-44A6-A97D-4B120511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C8722-E871-4C0F-B6D2-A5571176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B2F-F1E5-4A99-9514-BFCDE1A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6834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816DA-D2E8-4495-9788-3AB18CE4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AC9FF-B24E-4494-8209-E3F45D1B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8FFE6-DDFC-46B7-9261-21B90177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B6317-B3C2-4265-B9A4-90D9E42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1480" y="4163400"/>
            <a:ext cx="6686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4751A-A97B-4344-A2A4-19497EA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67960" y="213336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148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67960" y="4163400"/>
            <a:ext cx="326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D80AC-3A03-42D9-B4CA-152C95C3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2022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63080" y="213336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14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2022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63080" y="4163400"/>
            <a:ext cx="2152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4A082-EAB2-4100-9A16-56DAA973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3ABD9-70AE-4275-BB41-81C1D340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702D3-E7FE-48EE-9085-EDE2117A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F8A80-1C10-4BDB-852C-3DFD2F40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609F-8157-4091-8865-3942931290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2914-BB13-421C-B6B3-4DA5B64AF29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E880-4690-4219-961E-2C6E930A4A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1ECE-9DD9-4FD6-9133-3E8F9B6A998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6BDB-BF03-4A09-B0EC-21391C40F2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185112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833580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FD76-1713-46F2-8193-D2CC80B1096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2880" y="491112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39816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E23A-15FC-4646-BC85-BE57311E140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9130-E2B4-4945-A373-0F972ACCB9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65E7-A6D8-4566-9CCC-C3E15641648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30824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398160" y="452916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92B4-2ED7-4BC9-81ED-62B04BBD8E8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709E-53D3-4F61-A77E-339037B798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2880" y="31773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39816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05EE-9DA6-4A9C-874E-FCFC9B9F331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7DF1-5E49-4DD6-84F3-B718631543F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0794-7F30-4B7F-9186-D2F87244559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E966-283A-4D17-BD16-D276A914585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033A-C36A-4B67-9059-45962CB196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138400" cy="6638760"/>
            <a:chOff x="0" y="228600"/>
            <a:chExt cx="21384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752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96120" y="3156480"/>
              <a:ext cx="48492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605160" y="5447160"/>
              <a:ext cx="45684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719640" y="6504120"/>
              <a:ext cx="12852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75240" y="3201120"/>
              <a:ext cx="61632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6560" y="228600"/>
              <a:ext cx="7956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8680" y="2944080"/>
              <a:ext cx="5868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77080" y="5478840"/>
              <a:ext cx="1425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81400" y="1398960"/>
              <a:ext cx="155700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91920" y="6530040"/>
              <a:ext cx="121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77080" y="5359680"/>
              <a:ext cx="2772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637200" y="6244920"/>
              <a:ext cx="1789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0520" y="0"/>
            <a:ext cx="1766880" cy="6853320"/>
            <a:chOff x="20520" y="0"/>
            <a:chExt cx="17668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37044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12560" y="4316400"/>
              <a:ext cx="31752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754560" y="5862960"/>
              <a:ext cx="322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390960" y="4364280"/>
              <a:ext cx="41364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50640" y="1288800"/>
              <a:ext cx="13068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833400" y="6571800"/>
              <a:ext cx="10044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376560" y="4107600"/>
              <a:ext cx="6156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730080" y="3145680"/>
              <a:ext cx="105732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04960" y="6600600"/>
              <a:ext cx="9036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730080" y="5897160"/>
              <a:ext cx="1033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730080" y="5772960"/>
              <a:ext cx="2844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754560" y="6322680"/>
              <a:ext cx="15804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3644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2880" y="713160"/>
            <a:ext cx="119232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1480" y="21333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0960" y="6130800"/>
            <a:ext cx="8604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1120" y="6135840"/>
            <a:ext cx="5715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39816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578A-EC15-4F9B-A62A-B48C81E672B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941480" y="1773000"/>
            <a:ext cx="6686640" cy="300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178dbb"/>
                </a:solidFill>
                <a:latin typeface="Century Gothic"/>
              </a:rPr>
              <a:t>ИЗМЕНЕНИЯ в тестовой части ОГЭ </a:t>
            </a:r>
            <a:r>
              <a:rPr b="1" lang="ru-RU" sz="4900" spc="-1" strike="noStrike">
                <a:solidFill>
                  <a:srgbClr val="178dbb"/>
                </a:solidFill>
                <a:latin typeface="Century Gothic"/>
              </a:rPr>
              <a:t>по русскому языку</a:t>
            </a:r>
            <a:br>
              <a:rPr sz="4900"/>
            </a:br>
            <a:endParaRPr b="0" lang="en-US" sz="49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1941480" y="4776480"/>
            <a:ext cx="6686640" cy="14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595959"/>
                </a:solidFill>
                <a:latin typeface="Century Gothic"/>
              </a:rPr>
              <a:t>  </a:t>
            </a:r>
            <a:r>
              <a:rPr b="1" lang="ru-RU" sz="3200" spc="-1" strike="noStrike">
                <a:solidFill>
                  <a:srgbClr val="595959"/>
                </a:solidFill>
                <a:latin typeface="Century Gothic"/>
              </a:rPr>
              <a:t>Практические рекомендации для подготовки выпускников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274400" y="259920"/>
            <a:ext cx="6683400" cy="7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7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211" name="Picture 2" descr=""/>
          <p:cNvPicPr/>
          <p:nvPr/>
        </p:nvPicPr>
        <p:blipFill>
          <a:blip r:embed="rId1"/>
          <a:srcRect l="11571" t="38735" r="8737" b="33642"/>
          <a:stretch/>
        </p:blipFill>
        <p:spPr>
          <a:xfrm>
            <a:off x="611280" y="2276640"/>
            <a:ext cx="8031240" cy="2089080"/>
          </a:xfrm>
          <a:prstGeom prst="rect">
            <a:avLst/>
          </a:prstGeom>
          <a:ln w="0">
            <a:noFill/>
          </a:ln>
        </p:spPr>
      </p:pic>
      <p:sp>
        <p:nvSpPr>
          <p:cNvPr id="1212" name="Прямоугольник 4"/>
          <p:cNvSpPr/>
          <p:nvPr/>
        </p:nvSpPr>
        <p:spPr>
          <a:xfrm>
            <a:off x="1332000" y="836640"/>
            <a:ext cx="73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но посвящено орфографическим навыкам. В микротексте пропущены буквы, пропуски пронумерованы. Надо внести в бланк ответов те цифры, на месте которых пишется определённая буква (например, И)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3" name="Заголовок 1"/>
          <p:cNvSpPr/>
          <p:nvPr/>
        </p:nvSpPr>
        <p:spPr>
          <a:xfrm>
            <a:off x="1332000" y="4357800"/>
            <a:ext cx="6683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4" name="TextBox 6"/>
          <p:cNvSpPr/>
          <p:nvPr/>
        </p:nvSpPr>
        <p:spPr>
          <a:xfrm>
            <a:off x="882720" y="5057640"/>
            <a:ext cx="7759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каждое предложение: акцент на осмысление прочитанного!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Делаем морфемный разбор слова, в котором пропущена буква. Если надо (например, орфограмма в окончании), определяем часть речи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меняем нужное правило и вписываем букву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выписываем в строку ответа подходящие цифры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684840" cy="5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Задание 8</a:t>
            </a: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216" name="Picture 2" descr=""/>
          <p:cNvPicPr/>
          <p:nvPr/>
        </p:nvPicPr>
        <p:blipFill>
          <a:blip r:embed="rId1"/>
          <a:srcRect l="11745" t="41850" r="8844" b="37357"/>
          <a:stretch/>
        </p:blipFill>
        <p:spPr>
          <a:xfrm>
            <a:off x="1228680" y="2997360"/>
            <a:ext cx="7628040" cy="1498320"/>
          </a:xfrm>
          <a:prstGeom prst="rect">
            <a:avLst/>
          </a:prstGeom>
          <a:ln w="0">
            <a:noFill/>
          </a:ln>
        </p:spPr>
      </p:pic>
      <p:sp>
        <p:nvSpPr>
          <p:cNvPr id="1217" name="Прямоугольник 4"/>
          <p:cNvSpPr/>
          <p:nvPr/>
        </p:nvSpPr>
        <p:spPr>
          <a:xfrm>
            <a:off x="1258920" y="851040"/>
            <a:ext cx="7629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Надо </a:t>
            </a: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поставить слово в правильную форму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(вставить в указанное предложение). Встречаются слова разных частей речи: существительные, прилагательные, глаголы, числительные. Предлагаются формы слов, вызывающие наибольшее затруднение: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Р.п. и И.п. мн.ч., другие формы существи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сапог, помидоров; месяцы, доктора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сравнительная степень прилага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лучше, меньше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велительное наклонение и другие формы глаголов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лягте, разожжет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косвенные падежи количественных числительных (</a:t>
            </a:r>
            <a:r>
              <a:rPr b="0" i="1" lang="ru-RU" sz="1400" spc="-1" strike="noStrike">
                <a:solidFill>
                  <a:srgbClr val="000000"/>
                </a:solidFill>
                <a:latin typeface="Century Gothic"/>
              </a:rPr>
              <a:t>свыше пятисот, обеим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) и др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8" name="TextBox 6"/>
          <p:cNvSpPr/>
          <p:nvPr/>
        </p:nvSpPr>
        <p:spPr>
          <a:xfrm>
            <a:off x="1619280" y="4473720"/>
            <a:ext cx="41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TextBox 8"/>
          <p:cNvSpPr/>
          <p:nvPr/>
        </p:nvSpPr>
        <p:spPr>
          <a:xfrm>
            <a:off x="1173240" y="5013360"/>
            <a:ext cx="76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предложение: акцент на осмысление прочитанного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споминаем правильную форму слова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подготовке используем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заучиван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монический мет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нимательно вписываем в строку ответа слово в нужной форме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щая внимание на орфографию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Рисунок 3" descr=""/>
          <p:cNvPicPr/>
          <p:nvPr/>
        </p:nvPicPr>
        <p:blipFill>
          <a:blip r:embed="rId1"/>
          <a:stretch/>
        </p:blipFill>
        <p:spPr>
          <a:xfrm>
            <a:off x="995400" y="4292640"/>
            <a:ext cx="3222720" cy="241776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2" descr="Picture background"/>
          <p:cNvPicPr/>
          <p:nvPr/>
        </p:nvPicPr>
        <p:blipFill>
          <a:blip r:embed="rId2"/>
          <a:stretch/>
        </p:blipFill>
        <p:spPr>
          <a:xfrm>
            <a:off x="971640" y="184320"/>
            <a:ext cx="3168720" cy="4028760"/>
          </a:xfrm>
          <a:prstGeom prst="rect">
            <a:avLst/>
          </a:prstGeom>
          <a:ln w="0">
            <a:noFill/>
          </a:ln>
        </p:spPr>
      </p:pic>
      <p:pic>
        <p:nvPicPr>
          <p:cNvPr id="1222" name="Рисунок 5" descr=""/>
          <p:cNvPicPr/>
          <p:nvPr/>
        </p:nvPicPr>
        <p:blipFill>
          <a:blip r:embed="rId3"/>
          <a:srcRect l="0" t="9834" r="0" b="0"/>
          <a:stretch/>
        </p:blipFill>
        <p:spPr>
          <a:xfrm>
            <a:off x="4827600" y="3633840"/>
            <a:ext cx="3511440" cy="3076560"/>
          </a:xfrm>
          <a:prstGeom prst="rect">
            <a:avLst/>
          </a:prstGeom>
          <a:ln w="0">
            <a:noFill/>
          </a:ln>
        </p:spPr>
      </p:pic>
      <p:sp>
        <p:nvSpPr>
          <p:cNvPr id="1223" name="TextBox 6"/>
          <p:cNvSpPr/>
          <p:nvPr/>
        </p:nvSpPr>
        <p:spPr>
          <a:xfrm>
            <a:off x="4743360" y="22716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b4e6"/>
                </a:solidFill>
                <a:latin typeface="Century Gothic"/>
              </a:rPr>
              <a:t>Склонению числительных –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1b4e6"/>
                </a:solidFill>
                <a:latin typeface="Century Gothic"/>
              </a:rPr>
              <a:t>особое внимание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4" name="Picture 4" descr="Picture background"/>
          <p:cNvPicPr/>
          <p:nvPr/>
        </p:nvPicPr>
        <p:blipFill>
          <a:blip r:embed="rId4"/>
          <a:stretch/>
        </p:blipFill>
        <p:spPr>
          <a:xfrm>
            <a:off x="4832280" y="981000"/>
            <a:ext cx="3541680" cy="2652840"/>
          </a:xfrm>
          <a:prstGeom prst="rect">
            <a:avLst/>
          </a:prstGeom>
          <a:ln w="0">
            <a:noFill/>
          </a:ln>
        </p:spPr>
      </p:pic>
      <p:sp>
        <p:nvSpPr>
          <p:cNvPr id="1225" name="Прямая соединительная линия 8"/>
          <p:cNvSpPr/>
          <p:nvPr/>
        </p:nvSpPr>
        <p:spPr>
          <a:xfrm>
            <a:off x="4427640" y="227160"/>
            <a:ext cx="0" cy="64465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557000" y="393840"/>
            <a:ext cx="6683400" cy="64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12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187280" y="981000"/>
            <a:ext cx="77328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ние 12 похоже на прежнее 8, но стало сложнее. Если раньше слово, которое надо заменить стилистически нейтральным, было дано в формулировке задания, то теперь слово с заданной характеристикой надо сначала найти в указанном отрывк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28" name="Picture 2" descr=""/>
          <p:cNvPicPr/>
          <p:nvPr/>
        </p:nvPicPr>
        <p:blipFill>
          <a:blip r:embed="rId1"/>
          <a:srcRect l="8858" t="35438" r="6179" b="45861"/>
          <a:stretch/>
        </p:blipFill>
        <p:spPr>
          <a:xfrm>
            <a:off x="755640" y="2395440"/>
            <a:ext cx="8209080" cy="136836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4"/>
          <p:cNvSpPr/>
          <p:nvPr/>
        </p:nvSpPr>
        <p:spPr>
          <a:xfrm>
            <a:off x="1557360" y="38718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0" name="TextBox 5"/>
          <p:cNvSpPr/>
          <p:nvPr/>
        </p:nvSpPr>
        <p:spPr>
          <a:xfrm>
            <a:off x="1057320" y="447660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нимательно читаем предложения:  все то же осмысление прочитанного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Ищем нужное слово или фразеологизм. В задании 12 встречаются синонимы, антонимы, слова высокого стиля речи, разговорные (просторечные) слова, фразеологизмы. Особое внимание – «незаметным» фразеологизмам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необходимости заменяем другим словом и записываем ответ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щая внимание на орфографию!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Итог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1480" y="1412640"/>
            <a:ext cx="66866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дводя итог, можно сказать, что тестовая часть стала разнообразнее, но сложнее: времени и сил на подготовку придётся затратить больш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74680" y="260280"/>
            <a:ext cx="7950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8dbb"/>
                </a:solidFill>
                <a:latin typeface="Century Gothic"/>
              </a:rPr>
              <a:t>В 2024 году изменения коснулись ОГЭ по русскому языку и литературе</a:t>
            </a:r>
            <a:br>
              <a:rPr sz="3200"/>
            </a:b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pic>
        <p:nvPicPr>
          <p:cNvPr id="1179" name="Picture 2" descr="Изменения в КИМ ОГЭ 2024"/>
          <p:cNvPicPr/>
          <p:nvPr/>
        </p:nvPicPr>
        <p:blipFill>
          <a:blip r:embed="rId1"/>
          <a:stretch/>
        </p:blipFill>
        <p:spPr>
          <a:xfrm>
            <a:off x="826920" y="1484280"/>
            <a:ext cx="8128080" cy="5200560"/>
          </a:xfrm>
          <a:prstGeom prst="rect">
            <a:avLst/>
          </a:prstGeom>
          <a:ln w="0">
            <a:noFill/>
          </a:ln>
        </p:spPr>
      </p:pic>
      <p:sp>
        <p:nvSpPr>
          <p:cNvPr id="1180" name="Прямая соединительная линия 5"/>
          <p:cNvSpPr/>
          <p:nvPr/>
        </p:nvSpPr>
        <p:spPr>
          <a:xfrm>
            <a:off x="3276720" y="5732640"/>
            <a:ext cx="4464000" cy="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6848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Теперь в экзамене не 7, </a:t>
            </a:r>
            <a:br>
              <a:rPr sz="3600"/>
            </a:br>
            <a:r>
              <a:rPr b="1" lang="ru-RU" sz="3600" spc="-1" strike="noStrike">
                <a:solidFill>
                  <a:srgbClr val="178dbb"/>
                </a:solidFill>
                <a:latin typeface="Century Gothic"/>
              </a:rPr>
              <a:t>а 11 тестовых заданий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2" name="TextBox 5"/>
          <p:cNvSpPr/>
          <p:nvPr/>
        </p:nvSpPr>
        <p:spPr>
          <a:xfrm>
            <a:off x="684360" y="1917720"/>
            <a:ext cx="8388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Соответственно, изменились номера привычных заданий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2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2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пределение грамматических основ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3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: синтаксический анализ предложений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4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: синтаксический и пунктуационный анализ предложений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5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3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пунктуация, расставить знаки препинани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6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5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фографический анализ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7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фография, вставить пропущенные буквы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8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новое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грамматические нормы, поставить слово в нужную форму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9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ее №4: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замена словосочетания на синонимичное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я 10, 11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бывшие №№6 и 7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работа с текстом, лексика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Задание 12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1" lang="ru-RU" sz="1600" spc="-1" strike="noStrike">
                <a:solidFill>
                  <a:srgbClr val="ff0000"/>
                </a:solidFill>
                <a:latin typeface="Century Gothic"/>
              </a:rPr>
              <a:t>похожее на прежнее №8, но сложнее: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лексический анализ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Что используем в работе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1947600" y="1491840"/>
            <a:ext cx="66862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Сборник «Типовые экзаменационные варианты» под редакцией Дощинского и Цыбулько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«Учебная книга участника ОГЭ» под редакцией Цыбулько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Century Gothic"/>
              </a:rPr>
              <a:t>Папка с теоретическим материалом.</a:t>
            </a: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Picture 4" descr="ОГЭ-2025. Русский язык: типовые экзаменационные варианты: 36 вариантов (Национальное образование)"/>
          <p:cNvPicPr/>
          <p:nvPr/>
        </p:nvPicPr>
        <p:blipFill>
          <a:blip r:embed="rId1"/>
          <a:stretch/>
        </p:blipFill>
        <p:spPr>
          <a:xfrm>
            <a:off x="2189160" y="3141720"/>
            <a:ext cx="2382840" cy="3173400"/>
          </a:xfrm>
          <a:prstGeom prst="rect">
            <a:avLst/>
          </a:prstGeom>
          <a:ln w="0">
            <a:noFill/>
          </a:ln>
        </p:spPr>
      </p:pic>
      <p:sp>
        <p:nvSpPr>
          <p:cNvPr id="118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7" name="AutoShape 8"/>
          <p:cNvSpPr/>
          <p:nvPr/>
        </p:nvSpPr>
        <p:spPr>
          <a:xfrm>
            <a:off x="4572000" y="34290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8" name="Picture 16" descr=""/>
          <p:cNvPicPr/>
          <p:nvPr/>
        </p:nvPicPr>
        <p:blipFill>
          <a:blip r:embed="rId2"/>
          <a:stretch/>
        </p:blipFill>
        <p:spPr>
          <a:xfrm>
            <a:off x="5148360" y="3146400"/>
            <a:ext cx="2382840" cy="3164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683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я 2 и 3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1334880" y="1539720"/>
            <a:ext cx="66834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Оба выполняются по маленькому тексту, помещенному в начале тестовой части. Текст состоит </a:t>
            </a:r>
            <a:r>
              <a:rPr b="1" i="1" lang="ru-RU" sz="1600" spc="-1" strike="noStrike" u="sng">
                <a:solidFill>
                  <a:srgbClr val="404040"/>
                </a:solidFill>
                <a:uFillTx/>
                <a:latin typeface="Century Gothic"/>
              </a:rPr>
              <a:t>из пяти предложений</a:t>
            </a:r>
            <a:r>
              <a:rPr b="0" lang="ru-RU" sz="16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entury Gothic"/>
              </a:rPr>
              <a:t>Задание 2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заключается в необходимости определить основы предложений и выбрать те варианты ответов, в которых указаны верные основы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Century Gothic"/>
              </a:rPr>
              <a:t>Задание 3 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ключает в себя различную информацию по синтаксису этих предложений, кроме конкретного состава грамматических основ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односоставное или двусоставное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тип сказуемого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связь частей сложного предложения;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виды придаточных предложений;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- разные виды осложнений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i="1" lang="ru-RU" sz="1600" spc="-1" strike="noStrike">
                <a:solidFill>
                  <a:srgbClr val="404040"/>
                </a:solidFill>
                <a:latin typeface="Century Gothic"/>
              </a:rPr>
              <a:t>и другие характеристики</a:t>
            </a: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Picture 2" descr="https://avatars.dzeninfra.ru/get-zen_doc/1720666/pub_64e839f6bc779f74a9e78645_64e83e7df6ccc15bd1145657/scale_2400"/>
          <p:cNvPicPr/>
          <p:nvPr/>
        </p:nvPicPr>
        <p:blipFill>
          <a:blip r:embed="rId1"/>
          <a:stretch/>
        </p:blipFill>
        <p:spPr>
          <a:xfrm>
            <a:off x="1979640" y="2519280"/>
            <a:ext cx="5551560" cy="4162680"/>
          </a:xfrm>
          <a:prstGeom prst="rect">
            <a:avLst/>
          </a:prstGeom>
          <a:ln w="0">
            <a:noFill/>
          </a:ln>
        </p:spPr>
      </p:pic>
      <p:pic>
        <p:nvPicPr>
          <p:cNvPr id="1192" name="Рисунок 2" descr=""/>
          <p:cNvPicPr/>
          <p:nvPr/>
        </p:nvPicPr>
        <p:blipFill>
          <a:blip r:embed="rId2"/>
          <a:stretch/>
        </p:blipFill>
        <p:spPr>
          <a:xfrm>
            <a:off x="1979640" y="44280"/>
            <a:ext cx="5551560" cy="2346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Box 2"/>
          <p:cNvSpPr/>
          <p:nvPr/>
        </p:nvSpPr>
        <p:spPr>
          <a:xfrm>
            <a:off x="1200240" y="1058760"/>
            <a:ext cx="752292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читаем текст и каждое предложение: акцент на осмысление прочитанного!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Работаем с каждым предложением в таком порядке: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подчеркиваем основу (основы) предложения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водим союзы и союзные слова, соединяющие простые предложения в сложном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вляем круглые и квадратные скобки, разделяя сложные предложения на простые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м задание 2, сверяя основы с предложенными в задании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м задание 3, опираясь на разметку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утверждение связано с осложнениями простых предложений, находим и графически обозначаем осложнение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эт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о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ои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жду нами и миром, отражая общие представления всех говорящих на нем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ем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зыка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се свойства окружающей действительности, а только те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залис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обенн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кам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осителям этого языка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в языках некоторых северных народов: эскимосов, чукчей, коряков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ножество названи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ега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юд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нимают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ег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ним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их жизни заметно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сто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личе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стоя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цв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чен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ртину мира и через грамматику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ю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имеющие более тридцати падежей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ужат способо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ть точное положение предмета в пространстве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4" name="Заголовок 1"/>
          <p:cNvSpPr/>
          <p:nvPr/>
        </p:nvSpPr>
        <p:spPr>
          <a:xfrm>
            <a:off x="1619280" y="260280"/>
            <a:ext cx="6684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5" name="Овал 4"/>
          <p:cNvSpPr/>
          <p:nvPr/>
        </p:nvSpPr>
        <p:spPr>
          <a:xfrm>
            <a:off x="3800520" y="3525840"/>
            <a:ext cx="700200" cy="237960"/>
          </a:xfrm>
          <a:prstGeom prst="ellipse">
            <a:avLst/>
          </a:prstGeom>
          <a:noFill/>
          <a:ln cap="rnd"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6" name="Рисунок 5" descr=""/>
          <p:cNvPicPr/>
          <p:nvPr/>
        </p:nvPicPr>
        <p:blipFill>
          <a:blip r:embed="rId1"/>
          <a:stretch/>
        </p:blipFill>
        <p:spPr>
          <a:xfrm>
            <a:off x="4500720" y="4221000"/>
            <a:ext cx="736560" cy="238320"/>
          </a:xfrm>
          <a:prstGeom prst="rect">
            <a:avLst/>
          </a:prstGeom>
          <a:ln w="0">
            <a:noFill/>
          </a:ln>
        </p:spPr>
      </p:pic>
      <p:pic>
        <p:nvPicPr>
          <p:cNvPr id="1197" name="Рисунок 6" descr=""/>
          <p:cNvPicPr/>
          <p:nvPr/>
        </p:nvPicPr>
        <p:blipFill>
          <a:blip r:embed="rId2"/>
          <a:stretch/>
        </p:blipFill>
        <p:spPr>
          <a:xfrm>
            <a:off x="7885080" y="5678640"/>
            <a:ext cx="736560" cy="288720"/>
          </a:xfrm>
          <a:prstGeom prst="rect">
            <a:avLst/>
          </a:prstGeom>
          <a:ln w="0">
            <a:noFill/>
          </a:ln>
        </p:spPr>
      </p:pic>
      <p:pic>
        <p:nvPicPr>
          <p:cNvPr id="1198" name="Рисунок 8" descr=""/>
          <p:cNvPicPr/>
          <p:nvPr/>
        </p:nvPicPr>
        <p:blipFill>
          <a:blip r:embed="rId3"/>
          <a:stretch/>
        </p:blipFill>
        <p:spPr>
          <a:xfrm>
            <a:off x="7147080" y="5967360"/>
            <a:ext cx="73800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Рисунок 5" descr=""/>
          <p:cNvPicPr/>
          <p:nvPr/>
        </p:nvPicPr>
        <p:blipFill>
          <a:blip r:embed="rId1"/>
          <a:srcRect l="8968" t="0" r="0" b="0"/>
          <a:stretch/>
        </p:blipFill>
        <p:spPr>
          <a:xfrm>
            <a:off x="4284720" y="836640"/>
            <a:ext cx="4608360" cy="590544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561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Задание 4. </a:t>
            </a:r>
            <a:br>
              <a:rPr sz="3600"/>
            </a:b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1339560" y="981000"/>
            <a:ext cx="230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ние 4 </a:t>
            </a:r>
            <a:r>
              <a:rPr b="1" lang="ru-RU" sz="1800" spc="-1" strike="noStrike">
                <a:solidFill>
                  <a:srgbClr val="ff0000"/>
                </a:solidFill>
                <a:latin typeface="Century Gothic"/>
              </a:rPr>
              <a:t>очень похоже на задание 8 из ЕГЭ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 Нужно сопоставить правило и пример к нему, причем примеров больше, чем правил, и это уже не те предложения, что в первом тексте. Предложений пять, правил три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Box 3"/>
          <p:cNvSpPr/>
          <p:nvPr/>
        </p:nvSpPr>
        <p:spPr>
          <a:xfrm>
            <a:off x="4427640" y="2127240"/>
            <a:ext cx="439236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Times New Roman"/>
                <a:ea typeface="Calibri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о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тои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жду нами и миром, отражая общие представления всех говорящих на нем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ем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еркал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зык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все свойства окружающей действительности, а только те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залис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собенн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едкам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осителям этого язык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в языках некоторых северных народов: эскимосов, чукчей, коряков –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ножество названи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ега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юд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нимают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]</a:t>
            </a:r>
            <a:r>
              <a:rPr b="1" lang="ru-RU" sz="1400" spc="-1" strike="noStrike">
                <a:solidFill>
                  <a:srgbClr val="00b0f0"/>
                </a:solidFill>
                <a:latin typeface="Times New Roman"/>
                <a:ea typeface="Calibri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е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ним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их жизни заметно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сто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ег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личест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стоя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цв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чень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ажны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[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ый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картину мира и через грамматику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]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уществую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языки</a:t>
            </a: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Calibri"/>
              </a:rPr>
              <a:t>, 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Times New Roman"/>
                <a:ea typeface="Calibri"/>
              </a:rPr>
              <a:t>/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меющие более тридцати падежей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Times New Roman"/>
                <a:ea typeface="Calibri"/>
              </a:rPr>
              <a:t>/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)</a:t>
            </a: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Calibri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(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оторы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ужат способом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казать точное положение предмета в пространстве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3" name="Рисунок 4" descr=""/>
          <p:cNvPicPr/>
          <p:nvPr/>
        </p:nvPicPr>
        <p:blipFill>
          <a:blip r:embed="rId1"/>
          <a:srcRect l="8968" t="12197" r="46941" b="43905"/>
          <a:stretch/>
        </p:blipFill>
        <p:spPr>
          <a:xfrm>
            <a:off x="539640" y="2060640"/>
            <a:ext cx="3533760" cy="4105080"/>
          </a:xfrm>
          <a:prstGeom prst="rect">
            <a:avLst/>
          </a:prstGeom>
          <a:ln w="0">
            <a:noFill/>
          </a:ln>
        </p:spPr>
      </p:pic>
      <p:sp>
        <p:nvSpPr>
          <p:cNvPr id="1204" name="Заголовок 1"/>
          <p:cNvSpPr/>
          <p:nvPr/>
        </p:nvSpPr>
        <p:spPr>
          <a:xfrm>
            <a:off x="1306440" y="123840"/>
            <a:ext cx="6685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ак выполняем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5" name="TextBox 9"/>
          <p:cNvSpPr/>
          <p:nvPr/>
        </p:nvSpPr>
        <p:spPr>
          <a:xfrm>
            <a:off x="1332000" y="765000"/>
            <a:ext cx="748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тельно читаем каждое предложение: акцент на осмысление прочитанного!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Подчеркиваем основы и скобками обозначаем простые предложения, аналогично заданиям №№2 и 3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  Находим и обозначаем графически осложнения простых предложений, о которых говорится в задании №4. В этом нам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огают знаки препинания,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 которых говорится в ответах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Прямая соединительная линия 10"/>
          <p:cNvSpPr/>
          <p:nvPr/>
        </p:nvSpPr>
        <p:spPr>
          <a:xfrm flipV="1">
            <a:off x="3929040" y="2421000"/>
            <a:ext cx="719280" cy="180000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Прямая соединительная линия 12"/>
          <p:cNvSpPr/>
          <p:nvPr/>
        </p:nvSpPr>
        <p:spPr>
          <a:xfrm>
            <a:off x="3851280" y="2852640"/>
            <a:ext cx="649440" cy="21607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8" name="Прямая соединительная линия 14"/>
          <p:cNvSpPr/>
          <p:nvPr/>
        </p:nvSpPr>
        <p:spPr>
          <a:xfrm flipV="1">
            <a:off x="3851280" y="4508640"/>
            <a:ext cx="576360" cy="720720"/>
          </a:xfrm>
          <a:prstGeom prst="line">
            <a:avLst/>
          </a:prstGeom>
          <a:ln cap="rnd"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9" name="Рисунок 16" descr=""/>
          <p:cNvPicPr/>
          <p:nvPr/>
        </p:nvPicPr>
        <p:blipFill>
          <a:blip r:embed="rId2"/>
          <a:srcRect l="11113" t="85374" r="7813" b="1218"/>
          <a:stretch/>
        </p:blipFill>
        <p:spPr>
          <a:xfrm>
            <a:off x="544680" y="6051600"/>
            <a:ext cx="4103640" cy="79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7T10:14:53Z</dcterms:created>
  <dc:creator>User</dc:creator>
  <dc:description/>
  <dc:language>en-US</dc:language>
  <cp:lastModifiedBy>УМЦ</cp:lastModifiedBy>
  <dcterms:modified xsi:type="dcterms:W3CDTF">2025-04-09T06:30:07Z</dcterms:modified>
  <cp:revision>16</cp:revision>
  <dc:subject/>
  <dc:title>ИЗМЕНЕНИЯ в ОГЭ</dc:title>
</cp:coreProperties>
</file>